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78ADA-2203-4720-A2C1-41F455F653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C65A4-5E39-4896-A79A-9DB814317F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CF8C7-91DD-4836-8677-CADC2ED008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A698E-2900-419E-866F-231DF66BB6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35D0E-AABE-4D98-94CB-CA5933B0E6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C5F1-8457-4294-A82C-5F1AF327DB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BF2F-02D8-4006-B6E0-C5126FFE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A48F-1EB7-453A-85E7-4700CAC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9699-551B-4A95-B97A-AAB496F9F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9FB0-94D5-418C-8141-F57EBF7B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FD62-13C3-4DA5-931C-084E7042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E248-5596-4E3E-9F58-A72585F1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05E4-3976-421C-BCF5-A59A8A8A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AE09-70C0-40BC-A5E1-722A2BDE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927D-BFD6-44A7-817B-DE5CF56C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7286-F5F4-4FC9-A1B9-998512E2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E08F-3533-4DF3-86D7-73E8BC35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83B50A-3859-41E7-BB6C-4FF4FC461FC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SÍ SON LOS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sí son los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900000" y="2340000"/>
            <a:ext cx="49672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artes de un volc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156360" y="4797360"/>
            <a:ext cx="27734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ámara magmá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zona de la litosfera donde se acumula el magma y desde la que salen al exterior los materiales volcán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6372360" y="3429000"/>
            <a:ext cx="2771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himene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nducto que comunica la cámara magmática con el exter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012000" y="1773360"/>
            <a:ext cx="259236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edificio volcánico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iene forma de cono y se forma por la acumulación de materiales que expuls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olcá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971640" y="1413000"/>
            <a:ext cx="2735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ráter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s la abertura del volcán al exterior. Tiene forma de embudo y suele estar en la cima del edificio volcá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3564000" y="1916280"/>
            <a:ext cx="95400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 flipH="1">
            <a:off x="5003640" y="1989000"/>
            <a:ext cx="10209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 flipH="1">
            <a:off x="4571640" y="3645000"/>
            <a:ext cx="180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 flipH="1">
            <a:off x="4642920" y="5084640"/>
            <a:ext cx="151308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3T16:42:39Z</dcterms:modified>
  <cp:revision>45</cp:revision>
  <dc:subject/>
  <dc:title>Diapositiva 1</dc:title>
</cp:coreProperties>
</file>